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18B-AB7E-4407-BE03-7A238654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39E-1A4A-4445-9623-A5F71F55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A43-8722-40E4-B38D-42A669C7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B10-0592-41F6-9D6C-A397CC61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BCC5-C2E1-4C59-B5C6-62E2E679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AE80-EC0F-4AE1-A71A-F8179645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3AAA-B7A5-47D6-93C3-2A26FE19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B533-E459-44C1-A302-2597A456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75EC-FC99-4A32-833C-EA4AF7F1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DB0B-8A96-435A-95BE-88EC7823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67FC-5DC3-4612-AD63-EF7956D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5E7-DF66-4B32-9D5F-05DDF06D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3A13-E0EF-41BC-9CA9-44698FA0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8CCF-990D-4122-BE5E-EB3C4EC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C0B0-265C-4B80-B006-41DDDF28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E27C-7840-400F-ACA1-9BAE1E49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591C-F70B-46CF-A428-04FF68A9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54D-A5B1-464E-A9DC-44733D03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EBC-D7C2-4193-A87C-466739D4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C77-603F-4117-A9A0-E2BD9933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81F-B422-4014-949A-41135484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FAD-9CC9-4EF0-AA84-FB4E97FD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B10-46BD-43BE-AECB-244AE3C7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3FF-33FE-49C5-B329-7B9FF0E6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0142-EE63-41DF-9336-9B37E30EA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A963-3029-4710-8636-80B562162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A-ZVCjfWf8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838080" y="5105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utting Together the Pieces of Differenti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484440"/>
          </a:xfrm>
          <a:prstGeom prst="rect">
            <a:avLst/>
          </a:prstGeom>
          <a:solidFill>
            <a:srgbClr val="d8e1e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reflection paragraph in noting which strategies from today you plan to try and how you plan to implemen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2286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osu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a differentiation strategy this week-reflect in discussion thread on wiki how it worked and what you’d change next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e on 4-15-1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Incorporate various models of co-teaching into an upcoming lesson plan-post a reflective journal on week 4 on wiki about the model(s)  you chose, why you chose them and what could have been done different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arm-U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you already differentiate in your class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0272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plore aspects of differentiation and their applications for students in the co-taught classro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Brainstor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8653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is differentiation especially important in a co-taught clas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3000"/>
          </a:bodyPr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rpose for viewi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does the message of this video set the stage for differenti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youtube.com/watch?v=_A-ZVCjfWf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85800" y="2286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deo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tly complete the Bender Classroom Structure Questionna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completing it, discuss the results with your part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estionnai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the pre-assessment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Assessment, Differentiation, and Extension Menu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green light or stop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152280"/>
            <a:ext cx="7086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-Assess Your Understand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9416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category, note whether you chose the green light or the stop sign.  Complete the activity in that box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should complete 3 activities (one for each categor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522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fferentiation Men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29509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Writ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Vocabular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2120" y="152280"/>
            <a:ext cx="7772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fferentiation Strateg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1:27:20Z</dcterms:created>
  <dc:creator>fcps</dc:creator>
  <dc:description/>
  <cp:keywords/>
  <dc:language>en-US</dc:language>
  <cp:lastModifiedBy>FCPS</cp:lastModifiedBy>
  <dcterms:modified xsi:type="dcterms:W3CDTF">2013-04-09T17:39:39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33</vt:lpwstr>
  </property>
</Properties>
</file>